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062-6B39-4831-8B12-2D3134AB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0EE-24B7-44A0-A8D1-55CFB7D3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62F-E1ED-4B26-9FDC-EE72A0E5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792-D600-4EB2-A319-5353E44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AA68-65AE-4AFE-A930-39944629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132E-0C59-435D-B99A-596954B2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1B0-B1B4-4AFA-9E47-D92BDF36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CEF2-63E7-4809-8BA9-02121ED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26A-2FB6-41F4-AFF5-DD99690E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1C0-EFE6-4568-A700-7519ECFF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338-5FA2-4124-BC72-D9BF6E25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860-21AB-464E-A6FF-A951176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3FA0-533D-411D-92DC-AA44499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A296-DA9D-497E-B27A-43F4F5C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687-3116-4A95-8C9D-3C6B3ED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73ED-44DD-42C1-99A6-67F5078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A075-6EF6-45C7-B0D2-77107B11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E96-062B-43AA-A980-17C29185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89B-90B1-452E-BB0B-7EF52E68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4A9-5AEF-4EA4-BA52-F4A80C6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A01-9357-4258-B2CF-C2AA6DF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122-51D5-45A4-8D9B-5084D14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9EC-46BB-4CDF-AFEB-1DDC873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936-683C-4ECA-8BDB-1B862D0C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87A4-77AB-44A0-BF6F-D09923BDDCB0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1D14-7666-4315-9EC0-6DBCD4C7CE7A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igherlogicdownload.s3.amazonaws.com/APIC/eb3f0499-9134-44a4-9b14-f1d9f3915c3f/UploadedImages/IPCRiskAssessment.pd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120760" y="5210280"/>
            <a:ext cx="63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José Artur Pa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Paulo André Fern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M.ª Goreti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4"/>
          <p:cNvSpPr/>
          <p:nvPr/>
        </p:nvSpPr>
        <p:spPr>
          <a:xfrm>
            <a:off x="1541520" y="341280"/>
            <a:ext cx="682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Programa de Prevenção  e controlo de Infeção                                        e Resistências aos Antimicrobianos (PPC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3"/>
          <p:cNvSpPr/>
          <p:nvPr/>
        </p:nvSpPr>
        <p:spPr>
          <a:xfrm>
            <a:off x="1541520" y="2306520"/>
            <a:ext cx="7302600" cy="252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Century Gothic"/>
              </a:rPr>
              <a:t>Formação do PPCIRA – maio de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4bacc6"/>
                </a:solidFill>
                <a:latin typeface="Century Gothic"/>
              </a:rPr>
              <a:t>Generalidades sobre a Avaliação do Risco de Inf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e46c0a"/>
                </a:solidFill>
                <a:latin typeface="Century Gothic"/>
              </a:rPr>
              <a:t>Modelo da Joint Commission for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ítulo 1" descr=""/>
          <p:cNvPicPr/>
          <p:nvPr/>
        </p:nvPicPr>
        <p:blipFill>
          <a:blip r:embed="rId1"/>
          <a:stretch/>
        </p:blipFill>
        <p:spPr>
          <a:xfrm>
            <a:off x="1487520" y="2182680"/>
            <a:ext cx="74613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4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Baseado na identificação de risco, a US define metas e objetivos e prioriza ações, para minimizar a possibilidade de transmissão de infe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exposição desprotegida a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icrorganismos epidemiologicamente significativos e/ou transmissíve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a procediment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à utilização de equipamentos médicos, dispositivos e consumos/materi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adesão à Norma da higiene das mãos, uso adequado dos EPI, Higiene do Ambiente, etiqueta respiratória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Campanha  das Precauções Básicas de Controlo de Infeção (PBCI) e as Precauções Adicionais (PBVT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onitorizar o cumprimento das PBCI/PBV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1.05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tem instituído um plano de prevenção e controlo da infeção 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2.01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implementou o seu plano de prevenção e controlo da infeção e d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Atividades que incluem a VE, para minimizar, reduzir e/ou eliminar os riscos de transmissão da infeçã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ásicas de Controlo de Infeção (PBCI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aseadas nas Vias de Transmissão (PBVT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vestigação de surt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para armazenagem e remoção dos resídu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 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comunicação boca-a-boca, sobre as  responsabilidades na prevenção e controlo da infeções, de: Profissionais, Utentes, Visitantes e Familiare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ivulgação de informação de retorno aos Profissionais e aos CA, Chefias Intermédias, ao GCR-PPCIRA e à Direção do PPCIRA, se necessári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portar a informação sobre infeção, para as US que recebem os utentes ou as que nos enviam os utentes  - articulação entre os vários níveis de cuidados.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dução dos riscos associados com os materiais e equipamentos clínicos, dispositivos e procedimentos invasivos - limpeza, desinfeção e esterilização, armazenagem e utilização adequados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Questões relativas ao reprocessamento de materiais de uso único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de Saúde ocupacional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reening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Gestão dos casos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xposiçõ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grama de Vacinação (PNV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ns de Prevenção da Infeção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Higiene das Mã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BCI/PBVT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Eventos sentinela - 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oot Cause Analysi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m dos microrganismos alerta e problema (MDRO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CS associada a CV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do Local Cirúrgico-IL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respiratória, urinária….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Requisitos para o ensino/educação do doente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(e documentação)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1. PBCI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2. Higiene das mãos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3. Etiqueta Respiratória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4.Precauções de Contacto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5. Precauções de Gotícul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6. Precauções de Via Aére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7. Prevenção da ILC, da INCS, da IR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8. Toma cuidadosa de antibióticos (apenas e só quando necessário!)…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3.01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/Unidade de Saúde avalia a eficácia  do seu próprio plano de prevenção e controlo da infeção, anualmente e sempre que houver mudança no padrão dos risco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Finalida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374840" y="2263680"/>
            <a:ext cx="7442280" cy="2482920"/>
          </a:xfrm>
          <a:prstGeom prst="rect">
            <a:avLst/>
          </a:prstGeom>
          <a:ln w="0">
            <a:noFill/>
          </a:ln>
        </p:spPr>
      </p:pic>
      <p:sp>
        <p:nvSpPr>
          <p:cNvPr id="90" name="Rectângulo 4"/>
          <p:cNvSpPr/>
          <p:nvPr/>
        </p:nvSpPr>
        <p:spPr>
          <a:xfrm>
            <a:off x="5715000" y="4148280"/>
            <a:ext cx="309096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ângulo 5"/>
          <p:cNvSpPr/>
          <p:nvPr/>
        </p:nvSpPr>
        <p:spPr>
          <a:xfrm>
            <a:off x="1382760" y="4670280"/>
            <a:ext cx="74451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Avali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finir os objetivos do plano de 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lementar as atividades do plano de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municar com o Gabinete de Segurança do Do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Utilizar os resultados da VE e das auditorias, aquando da revisão do plan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laneamento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ormulári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õ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corrent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Open Sans"/>
              </a:rPr>
              <a:t>Grupo de Trabalh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Convidar: Quais os profissionais que poderão responder melhor aos problemas de prevenção e controlo da infeção?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Solicitar informação previamente  sobre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diagnósticos mais frequentes de admissão dos utentes (GDH)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principais procedimentos invasivos levados a cabo na US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os microrganismos mais relevantes para a transmissão cruzada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Outros dados relevantes</a:t>
            </a: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74760"/>
            <a:ext cx="411480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fissionais do GCL-PPCIR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EH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 Clínic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/Supervisão de Enfermagem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Laboratório de Microbiolo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Farmácia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irur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31964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Administra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S. Hoteleiros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Manuten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Esterilização Centralizada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Departamento da Qualidade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Coordenação da Acreditação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-REUNI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issão ou grupo para operacionalizar a avaliação de risco/particip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empo para pensar e discutir a priorização dos riscos e os méto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terminar o Plano de CI e RAM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atores a incluir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obilidade dos utentes entre unidades de 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geográficas e ambient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a Popul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atores endémicos de infeção 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os cuidados pres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erviços pres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scrição dos fator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aumenta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diminue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ncluir os dados obtidos através da avaliação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Componentes do formulário de avaliação do risc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babilidade de ocorrência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acto/severida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nanç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ei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Regulamentação interna, Acredi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istemas correntes/comun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Score</a:t>
            </a: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riva da multiplicação de 3 component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nsenso do Grup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v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dia matemática ou somatóri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iorização dos risc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rdenar os riscos por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 (ranking)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 Organização pode ter de definir prioridades diferentes, em função das suas realidades e necessidades específ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30720" y="185760"/>
            <a:ext cx="5519520" cy="5964120"/>
          </a:xfrm>
          <a:prstGeom prst="rect">
            <a:avLst/>
          </a:prstGeom>
          <a:ln w="0">
            <a:noFill/>
          </a:ln>
        </p:spPr>
      </p:pic>
      <p:sp>
        <p:nvSpPr>
          <p:cNvPr id="93" name="Rectângulo 2"/>
          <p:cNvSpPr/>
          <p:nvPr/>
        </p:nvSpPr>
        <p:spPr>
          <a:xfrm>
            <a:off x="185760" y="152280"/>
            <a:ext cx="3373560" cy="597708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Localização geográfica </a:t>
            </a: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e </a:t>
            </a: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ambiente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Serviços que p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Características da população ser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Resul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Identificar riscos de infeção relacionados com os utentes, profissionais, voluntários, estudantes, visitan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Focar nos serviços pres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Cada Unidade de Saúde tem particularidades que merecem atenção diferente, conforme a sua tipologia, valências clínicas/outros fa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306440" y="6346800"/>
            <a:ext cx="4822920" cy="336600"/>
          </a:xfrm>
          <a:prstGeom prst="rect">
            <a:avLst/>
          </a:prstGeom>
          <a:ln w="0">
            <a:noFill/>
          </a:ln>
        </p:spPr>
      </p:pic>
      <p:sp>
        <p:nvSpPr>
          <p:cNvPr id="95" name="Rectângulo 5"/>
          <p:cNvSpPr/>
          <p:nvPr/>
        </p:nvSpPr>
        <p:spPr>
          <a:xfrm>
            <a:off x="6095880" y="6291360"/>
            <a:ext cx="2438640" cy="36036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Open Sans"/>
              </a:rPr>
              <a:t>Barbara So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avaliação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iscutir cada risco potencial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ntribuir para o consenso do grupo, na atribuição do número, para cada compon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ultiplicar o n.º de componentes, para calcul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casionalmente, compar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, para validação pelo Grupo de trabalh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lano de prevenção e controlo da infeção e RAM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eolver o plano para cada estratégia, com pessoas, recursos, calendarização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Recolher apoio dos membros do GCL-PPCIRA e apoio administrativ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olver parcerias com os p</a:t>
            </a:r>
            <a:r>
              <a:rPr b="0" i="1" lang="en-US" sz="3000" spc="-1" strike="noStrike">
                <a:solidFill>
                  <a:srgbClr val="000000"/>
                </a:solidFill>
                <a:latin typeface="Open Sans"/>
              </a:rPr>
              <a:t>rofissionais-chave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Não tente solucionar muita coisa de uma só vez!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finir objetivos, metas, medidas de monitorização e metodologia de a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valiaçã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 PCI – Relatório de progress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rganizar/Ordenar as prioridades (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ankink)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Metas (afirmaçãoes genéric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bjetivos (apoios específicos e mensuráveis para cada meta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Estratégias (fases/etapas para consecussão de cada um dos objetivos/met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valiação (como se pretende medir o nosso sucesso?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nálise de Progresso (situação atual e próximas etapa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grup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ara os 3 Riscos prioritários - “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Top Three Risks”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dentificados, desenvolver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Estratégias de implemen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todos de avali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Avaliação de Risco /Planeament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ocumentação dos process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nvolvimento do Grupo/ suporte/apoio organizacional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cessos/Modos ou vias de comunicação dos resul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companhamento dos resul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gramação das ações de promoção das boas prát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Importante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pletar a formação, com as apresentações em </a:t>
            </a:r>
            <a:r>
              <a:rPr b="0" i="1" lang="pt-PT" sz="3200" spc="-1" strike="noStrike">
                <a:solidFill>
                  <a:srgbClr val="000000"/>
                </a:solidFill>
                <a:latin typeface="Open Sans"/>
              </a:rPr>
              <a:t>P. Point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46c0a"/>
                </a:solidFill>
                <a:latin typeface="Open Sans"/>
              </a:rPr>
              <a:t>Avaliação do Risco Geográfico e Organizacional do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984807"/>
                </a:solidFill>
                <a:latin typeface="Open Sans"/>
              </a:rPr>
              <a:t>Avaliação do Risco Individual em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Obrigada pela Atenção!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6"/>
          <p:cNvSpPr/>
          <p:nvPr/>
        </p:nvSpPr>
        <p:spPr>
          <a:xfrm>
            <a:off x="250920" y="6093000"/>
            <a:ext cx="87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nte: Risk Assessment for Infection Prevention and Control Programs. Acessível online em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igherlogicdownload.s3.amazonaws.com/APIC/eb3f0499-9134-44a4-9b14-f1d9f3915c3f/UploadedImages/IPCRiskAssessmen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1820880" cy="16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2159280" cy="141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3957480" cy="166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1882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ítulo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iscutir as estratégias para assegurar a avaliação de risco com sucesso;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senvolver um plano de avaliação de risco adaptado aos resultado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riar um relatório de progresso, salientando a adesão e progresso do plano de ação de avaliação de risco da Unidade de Saúde (US)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 Normas de CI devem integrar a avaliação de risco nos objetivos de prevenção de infeção,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Implementar um Processo formal, bem estruturado e bem concebido, com uma abordagem cuidadosa,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ra analisar as atividades de prevenção de infe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nálise reflexiva sobre o que pode</a:t>
            </a: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causa danos aos utentes, funcionários, familiares e visitantes, ou das instalações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questões importantes a considerar na avaliação do risco de infeção da US, sã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 um risco conhecido ou potencial é provável de   ocorrer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ocorrer,  vai ser significativo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a organização está suficientemente preparada para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lidar com isso de forma que os efeitos negativos sejam eliminados ou minimizados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3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 identifica os riscos de aquisição e transmissão da infeção / coloniza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Os riscos são identificados com base: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ocalização geográfica, Comunidde e população servida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s Cuidados, Tratamentos, Procedimentos ou Serviços prestado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A análise das atividades de vigilância epidemiológica e outros dados de infeção da U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miss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visão e identificação de riscos pelo menos anualmente e se há alterações significativa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quer o envolvimento do GCL-PPCIRA, a equipa médica e de enfermagem e liderança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e documentar as a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mgsilva</cp:lastModifiedBy>
  <dcterms:modified xsi:type="dcterms:W3CDTF">2015-05-14T09:12:49Z</dcterms:modified>
  <cp:revision>170</cp:revision>
  <dc:subject/>
  <dc:title>Diapositivo 1</dc:title>
</cp:coreProperties>
</file>